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79A-35CF-4D77-B236-E4078338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87E-C566-4BAA-81C3-C8F11F84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83801-DC7A-4183-BECC-C2B94BC2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96287-A3FF-474C-B2C3-17EED547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0D9CB-F2C5-4544-BB45-064C99E9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43319-7568-421F-B29E-9561A57E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9125E-78EF-419B-B51E-F09FCD37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0B7F7-262C-4131-A6B9-6F4A1465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77AA1-92E1-46B8-A4E6-97BA4E4A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861F3-6930-4793-9CEF-4F8871E2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02D73-A73F-4E4E-8751-2809644D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BD5F9-D638-4A3E-A92D-C51869ED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154-A0F8-4CDE-A3AC-FFDC6901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5BF39-0463-4257-851A-94211CAE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24494-CB7F-448C-A0F3-B0418E81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5FA4C-305E-451B-8048-9012EADA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67A34-FD3E-412D-81DA-8DAF1BFC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97D57-87F2-480D-9EC6-760791DE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B2E74-F23A-42C5-99E5-D56FC496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FC62A-C051-4A09-BF14-2FC4B09F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4B275-3F60-4DD3-A18C-F4E1A533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F1D1D-D491-42EB-AB3B-144D55D3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DA854-BF42-4C02-8BA5-98FAE42E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415-E759-43AA-B47B-EC408D1D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3DCA8-5555-432F-89E7-52DA5C17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C6EB0-A60B-45A7-A1C5-FC70E597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7CB9F-C3CA-480D-BE11-A0174B35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EBA9D-34FD-4A24-A21D-69042BA2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3D389-9942-459D-BE5B-A46DC528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5A659-A8A6-4637-B63A-ACE27331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85095-5D31-4A09-BBD5-79A96AD1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58746-24BA-4CDE-BF07-BDDB8004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D62D2-7D90-477A-8DEA-6FAFD0FD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D27EE-9736-490B-AB33-19B3663D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468E-982D-4FDC-97F6-84E28EE5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0971E-9324-4E8E-874C-569C916F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D7B74-25F9-459A-9511-8B8F72A7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26838-32D7-4D90-8933-83822A93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6CECC-6108-433C-90A4-7EDAFA38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08899-9F72-49E6-8DC4-04F94660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B2AD0-30EB-42BA-B4D4-CB41E2BC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1FD6F-BE4B-4D88-BA71-75D93104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00B44-F097-4239-BF8A-D243D545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FC88D-A66C-401D-A8A3-81584A52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75786-48D0-41AA-918F-E713A9E6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A896-C91D-4802-B019-11489243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28C32-51CB-4F7E-B2E2-D217A1BF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8EE79-14E2-41BB-A6EB-89F59AB6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1A38A-557D-4CD7-87B5-8EC359F2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69A0B-065C-465B-83EE-4AB18A96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FE4ED-4119-4A85-868E-83C85775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9AD9-FA12-40E6-A248-BC3CAD98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75EE-B8AD-4443-8281-9FF9355F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254B-D894-48E9-B18E-58E661ED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0911-82BF-4770-8642-ECDE3911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600F-02E9-4356-8569-157A189D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B51-6D85-4AB0-A4B6-C48A2509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320B-C8A6-4D52-8F49-14983F31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29EC-9322-4C21-9030-DED6138E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0649-9D83-47EB-AAF1-BC2ECF98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B768-BCC8-43C1-946F-CEBD5F9E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7AFF-F94B-4314-BE13-8AE8424A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F3E42-72F2-4153-9D4E-C3FBA24B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A3966-EE1C-4B78-BD2D-B8C21520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936EA-A6AA-4FFE-84FC-7B7D1561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A5EF-0AB9-400E-BAED-BB6D3232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7114C-23A0-481A-B075-521B86E3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36C-DFA3-4CF8-9E7D-90A9180B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2AF3-4A97-4379-8838-AACC7DC3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5F547-6955-42AE-A43D-69CB8C23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E00A-23B6-4D3F-9106-B2281F15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5B94-BD1E-43D3-81B2-16CA8C5F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75BAA-427F-4005-83C7-8ECF87C3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6466D-8187-4EA4-9F97-AD06451D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2D4C-8801-4305-85B2-AF12EA9B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96E83-2940-4AB8-AEC3-C11F5512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35268-AF9C-48DD-BC8F-23239D4E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840DA-0962-4768-BE3A-0DA4D463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8CD-8433-4AEA-A01E-A1775FE7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EBF94-28C3-4F05-98D4-F5107B1C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75FB2-62F6-498C-9066-5133AE3D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6105F-64F7-4921-9042-74BCD921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611C3-F32E-4F6A-A0F0-0B5205C5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F2729-40E0-429C-8A8D-9855076A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DFCD7-21D4-4D9B-AA27-132BCB13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8351E-83A3-4199-B4D8-878C64D0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0FEC1-00AF-4493-892E-0EEB0973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A58CF-BADF-4EF0-A178-18242CB9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4CB37-457B-4CEA-8BF4-1177434B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AFA-D90B-4EFD-927D-6B847C80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06621-CEA4-4CF1-B357-DC9DFF30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5159A-1480-4E73-B0C7-4A02ABE2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30FF4-BA75-4469-B9C8-3010BA60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9FDEC-2664-4D9D-86DD-81B28F7C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490BE-C23A-482F-8A35-5D9C7145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633E6-0ACD-4F16-8450-9DFFA4DE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59BBB-7E0D-460C-89D8-7DD47032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64759-2F2C-4917-9060-35AF690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070DF-6896-4679-897D-703630F2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6D9C6-1D07-4995-8517-8B76A9C0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E02-F72E-4DBF-8FFE-CF9A830F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5C97B-9E0E-4C13-AF44-A696A9BF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ABF5A-5095-4ABF-8F7F-66CADD84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DFA86-94BF-4908-B6E4-D69E3649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C5916-A5E7-43D2-9160-DDD93DA0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BD6C5-5629-43A1-BFE6-E39AAA05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D3FF3-4FD5-4055-AA24-F0608F9A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F7051-31F2-4345-B224-E2CFB6F2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1DEF5-53D1-4FD2-9C83-DE0BB310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169D7-AD61-43D8-A06D-C2E66733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E2A6C-5125-4C04-AE66-90D6B74B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ECD-D9B0-4EAA-83B8-74A9B6E6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FEF36-3217-421D-8E53-20F83AED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5FE65-F70E-4796-B900-A65ECFFF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03562-9C2B-47EF-9A42-D20252A8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D2AD6-4307-49AC-A8C9-EB9D625C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4EBD6-2E9B-4B43-B5E3-5FE7712D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79A10-AA7F-4BF4-9A7D-7A336F5F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58524-C2E7-454B-A014-C31B0080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051A1-DD14-4C4E-9B54-D8258ABD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B1025-3EAE-4616-9D46-A21DD0DC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9E1FC-17A6-4283-A47D-87212C35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039-A36F-4AD6-87B8-61D66EA5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04A5D-5F11-4759-BE32-9D2E1F03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7F15D-3AC1-4A69-821D-7B1E601A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FB121-6032-432C-BE2B-E22815DD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A52D5-A708-461B-8D67-939D2FFB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DA1FB-AA00-4E09-95D5-723CBC9F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121AF-077F-4A7F-A050-944CF5DD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A7A08-4534-47BD-9A76-3AAEF6EB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70065-17BF-41BB-B2A5-56D25638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5CF6C-15E2-4697-8877-4A1EADD5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6EED4-CBC2-4466-B2C0-E1A815A4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CE5-0D3D-4A54-A6E0-9987135B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B6BD4-258B-4930-92AC-C5B5AC1C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E3C65-B7B8-4FC3-A4BC-B68B1B1D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E39FB-1355-4D2B-93B0-DD71A30D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9EFDA-7117-49D9-AA51-1708BD23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528EA-FAA2-4787-B277-F04BE5FC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01A14-41B7-4BBF-96CC-94668A06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FD88E-F862-4142-8DF9-00AD0613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DEEA7-16B7-4D62-8984-6406CC77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ED725-1D13-4B83-8D0A-24B0DDB8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68DAB-65E5-4E6B-9B2A-53F06BF8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317A-1F79-40FE-96F1-AF2FC1EDE8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ECB1-9B0C-43EE-9E7C-00C25013EE7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DE46-F4CD-48F7-9F73-9EF4191C14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DEF0-AB74-4F06-8C30-A2E193A51B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11FB-5D45-47BD-B952-E0297960D5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9713-FC73-430F-846A-CEB27FADDD0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CF93-60B1-4086-8A6C-8576387A47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EF40-1AF2-45AA-BA9A-8DA9DDB4B1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7713-071D-4562-82A9-00D54682ED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01EC-7440-40F4-85C0-88D0C16304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5266-76A1-4373-8990-8F32488963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9BB1-9847-4F0B-9F8C-42CACC96463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08 Boží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í hlas, Boží hl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ýva ťa, kým je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evne veriť, dúfať smelo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evne veriť, dúfať smel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e konať jeho diel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é dokoná v svoj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ánom len, s Pánom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čaj stále, deň čo de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mu slúž vždy odovzda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ech čokoľvek sa st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víhaj viery pocho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čo chcieť, prečo chcie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úšti sveta biedne mrie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Pán z výšin slávy n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šiel vykúpiť aj t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veky ho môžeš zr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y cieľ, spásy cie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kázal ti Spasite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on slávne vyšiel z hrob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olal diabla moc a zlob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si raz s ním žiť sme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23:13Z</dcterms:modified>
  <cp:revision>22</cp:revision>
  <dc:subject/>
  <dc:title>Je veľký náš Pán, on slávy je Kráľ Nech do všetkých strán  spev vrúcnych znie chvál.</dc:title>
</cp:coreProperties>
</file>